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C3AAE4E-2093-496D-95F5-E9909A1588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778200" y="9433080"/>
            <a:ext cx="2892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5560"/>
                <a:tab algn="l" pos="3633840"/>
                <a:tab algn="l" pos="4543560"/>
                <a:tab algn="l" pos="5448240"/>
                <a:tab algn="l" pos="6356520"/>
                <a:tab algn="l" pos="7269120"/>
                <a:tab algn="l" pos="8174160"/>
                <a:tab algn="l" pos="9085320"/>
                <a:tab algn="l" pos="9991800"/>
                <a:tab algn="l" pos="10260000"/>
                <a:tab algn="l" pos="10706040"/>
              </a:tabLst>
            </a:pPr>
            <a:fld id="{97F74F2B-4620-4EE2-BCBE-46BE3E22D1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900000" y="744480"/>
            <a:ext cx="48722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2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73A3-B2A8-4B7A-AC4F-BB3C23BA11BD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tabLst>
                <a:tab algn="l" pos="0"/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Le calendrier du Plan Régional de Santé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9900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AutoShape 49"/>
          <p:cNvSpPr/>
          <p:nvPr/>
        </p:nvSpPr>
        <p:spPr>
          <a:xfrm flipV="1">
            <a:off x="7740720" y="10519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421164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966000" y="795240"/>
            <a:ext cx="43164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335800" y="793800"/>
            <a:ext cx="287640" cy="2588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6678720" y="795240"/>
            <a:ext cx="28728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003640" y="62064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022720" y="836640"/>
            <a:ext cx="43200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45472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8047080" y="8366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8672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7397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389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10236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436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8623440" y="8366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257640" y="773280"/>
            <a:ext cx="954000" cy="2793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4211640" y="816120"/>
            <a:ext cx="811080" cy="236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AutoShape 40"/>
          <p:cNvSpPr/>
          <p:nvPr/>
        </p:nvSpPr>
        <p:spPr>
          <a:xfrm>
            <a:off x="5580000" y="3789360"/>
            <a:ext cx="2076480" cy="14436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360" bIns="54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812000" y="134136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5580000" y="2421000"/>
            <a:ext cx="2160720" cy="2905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5580000" y="1989000"/>
            <a:ext cx="2087640" cy="29052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AutoShape 40"/>
          <p:cNvSpPr/>
          <p:nvPr/>
        </p:nvSpPr>
        <p:spPr>
          <a:xfrm>
            <a:off x="5745240" y="6237360"/>
            <a:ext cx="2631960" cy="19512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AutoShape 68"/>
          <p:cNvSpPr/>
          <p:nvPr/>
        </p:nvSpPr>
        <p:spPr>
          <a:xfrm>
            <a:off x="4716360" y="4964040"/>
            <a:ext cx="876240" cy="235080"/>
          </a:xfrm>
          <a:custGeom>
            <a:avLst/>
            <a:gdLst>
              <a:gd name="textAreaLeft" fmla="*/ 0 w 876240"/>
              <a:gd name="textAreaRight" fmla="*/ 876600 w 8762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Text Box 76"/>
          <p:cNvSpPr/>
          <p:nvPr/>
        </p:nvSpPr>
        <p:spPr>
          <a:xfrm>
            <a:off x="4427640" y="487692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77"/>
          <p:cNvSpPr/>
          <p:nvPr/>
        </p:nvSpPr>
        <p:spPr>
          <a:xfrm>
            <a:off x="55926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Text Box 78"/>
          <p:cNvSpPr/>
          <p:nvPr/>
        </p:nvSpPr>
        <p:spPr>
          <a:xfrm>
            <a:off x="5470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>
            <a:off x="5580000" y="3573360"/>
            <a:ext cx="2076480" cy="14292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5580000" y="4005360"/>
            <a:ext cx="2149560" cy="21564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AutoShape 40"/>
          <p:cNvSpPr/>
          <p:nvPr/>
        </p:nvSpPr>
        <p:spPr>
          <a:xfrm>
            <a:off x="5580000" y="4292640"/>
            <a:ext cx="2154240" cy="21600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AutoShape 40"/>
          <p:cNvSpPr/>
          <p:nvPr/>
        </p:nvSpPr>
        <p:spPr>
          <a:xfrm>
            <a:off x="5580000" y="4581360"/>
            <a:ext cx="2149560" cy="2160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AutoShape 40"/>
          <p:cNvSpPr/>
          <p:nvPr/>
        </p:nvSpPr>
        <p:spPr>
          <a:xfrm>
            <a:off x="2195640" y="5621400"/>
            <a:ext cx="717480" cy="253800"/>
          </a:xfrm>
          <a:custGeom>
            <a:avLst/>
            <a:gdLst>
              <a:gd name="textAreaLeft" fmla="*/ 0 w 717480"/>
              <a:gd name="textAreaRight" fmla="*/ 717480 w 7174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Rectangle 88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Rectangle 90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Line 96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Line 97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Line 98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4449600" y="5961240"/>
            <a:ext cx="532080" cy="277560"/>
          </a:xfrm>
          <a:custGeom>
            <a:avLst/>
            <a:gdLst>
              <a:gd name="textAreaLeft" fmla="*/ 0 w 532080"/>
              <a:gd name="textAreaRight" fmla="*/ 532440 w 53208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327672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1332000" y="620640"/>
            <a:ext cx="3716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AutoShape 48"/>
          <p:cNvSpPr/>
          <p:nvPr/>
        </p:nvSpPr>
        <p:spPr>
          <a:xfrm flipV="1">
            <a:off x="2771640" y="10519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916360" y="1341360"/>
            <a:ext cx="0" cy="536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802800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5157720"/>
            <a:ext cx="1332000" cy="115092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1387440" y="2011320"/>
            <a:ext cx="2536920" cy="290520"/>
          </a:xfrm>
          <a:custGeom>
            <a:avLst/>
            <a:gdLst>
              <a:gd name="textAreaLeft" fmla="*/ 0 w 2536920"/>
              <a:gd name="textAreaRight" fmla="*/ 2537280 w 25369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2932200"/>
            <a:ext cx="6307200" cy="29052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291360" cy="264960"/>
          </a:xfrm>
          <a:custGeom>
            <a:avLst/>
            <a:gdLst>
              <a:gd name="textAreaLeft" fmla="*/ 0 w 6291360"/>
              <a:gd name="textAreaRight" fmla="*/ 6291720 w 62913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1380960" y="4060800"/>
            <a:ext cx="1967040" cy="231840"/>
          </a:xfrm>
          <a:custGeom>
            <a:avLst/>
            <a:gdLst>
              <a:gd name="textAreaLeft" fmla="*/ 0 w 1967040"/>
              <a:gd name="textAreaRight" fmla="*/ 1967400 w 19670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87440" y="4964040"/>
            <a:ext cx="3255840" cy="193680"/>
          </a:xfrm>
          <a:custGeom>
            <a:avLst/>
            <a:gdLst>
              <a:gd name="textAreaLeft" fmla="*/ 0 w 3255840"/>
              <a:gd name="textAreaRight" fmla="*/ 3256200 w 32558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5300640"/>
            <a:ext cx="3627360" cy="216000"/>
          </a:xfrm>
          <a:custGeom>
            <a:avLst/>
            <a:gdLst>
              <a:gd name="textAreaLeft" fmla="*/ 0 w 3627360"/>
              <a:gd name="textAreaRight" fmla="*/ 3627720 w 3627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76280" y="5950080"/>
            <a:ext cx="3005280" cy="21096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7812000" y="1663560"/>
            <a:ext cx="800280" cy="397080"/>
          </a:xfrm>
          <a:custGeom>
            <a:avLst/>
            <a:gdLst>
              <a:gd name="textAreaLeft" fmla="*/ 0 w 800280"/>
              <a:gd name="textAreaRight" fmla="*/ 800640 w 800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189000"/>
            <a:ext cx="1295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Annexe 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dcterms:modified xsi:type="dcterms:W3CDTF">2011-11-10T10:52:30Z</dcterms:modified>
  <cp:revision>375</cp:revision>
  <dc:subject/>
  <dc:title>Présentation PowerPoint</dc:title>
</cp:coreProperties>
</file>